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3360"/>
            <a:ext cx="9144000" cy="2679840"/>
            <a:chOff x="0" y="63360"/>
            <a:chExt cx="9144000" cy="2679840"/>
          </a:xfrm>
        </p:grpSpPr>
        <p:graphicFrame>
          <p:nvGraphicFramePr>
            <p:cNvPr id="1" name=""/>
            <p:cNvGraphicFramePr/>
            <p:nvPr/>
          </p:nvGraphicFramePr>
          <p:xfrm>
            <a:off x="0" y="63360"/>
            <a:ext cx="9144000" cy="26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63360"/>
                      <a:ext cx="9144000" cy="26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SRH" descr=""/>
            <p:cNvPicPr/>
            <p:nvPr/>
          </p:nvPicPr>
          <p:blipFill>
            <a:blip r:embed="rId4"/>
            <a:stretch/>
          </p:blipFill>
          <p:spPr>
            <a:xfrm>
              <a:off x="609480" y="838080"/>
              <a:ext cx="6046920" cy="66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7696080" y="228600"/>
            <a:ext cx="1447920" cy="46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590920"/>
            <a:ext cx="914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CONSELHO NACIONAL DE RECURSOS HÍD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33920"/>
            <a:ext cx="914400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ÂMARA TÉCNICA DE GESTÃO DE RECURSOS HÍDRICOS TRANSFRONTEIRIÇOS  - CTGR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26ª REUNI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30 DE SET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BRASÍ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2280" y="173988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5 - Identificação de projetos pilotos demonstrativos para o gerenciamento de tópicos e áreas cr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Definição de temas e áreas sobre os quais é urgente e possível atuar conforme definido no Programa Macro de Ações Estratégicas – P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mponentes 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Quatro projetos de investimentos em temas ou áreas críticas no nível de pré-viabilidade técnica e econômica em condições de serem apresentados pelos países do CIC a organismos de financi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6320" y="1927080"/>
            <a:ext cx="914400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ATIVIDADES REALIZADAS</a:t>
            </a:r>
            <a:r>
              <a:rPr b="1" lang="pt-BR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 </a:t>
            </a:r>
            <a:r>
              <a:rPr b="1" lang="pt-BR" sz="1700" spc="-1" strike="noStrike">
                <a:solidFill>
                  <a:srgbClr val="3333cc"/>
                </a:solidFill>
                <a:latin typeface="Verdana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Reuniões técnicas sobre Alerta Hidrológico e Aspectos da Qualidade   de Água  - Argentina (DEZ/03 e JUN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Workshop Sistemas de Previsão Climática e Hidrológica para o Planejamento Estratégico para a Bacia do Prata - Argentina (JUN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Constituição de grupos de trabalho sobre alerta hidrológico e qualidade de água com participação dos 5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523880"/>
            <a:ext cx="891540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ATIVIDADES RE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nstrução de Visões Nacionais sobre a Ba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- Workshop Visão no Brasil - Brasília (ABR/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- Resultados: Identificação e Priorização de Ações para a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Construção da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  <a:ea typeface="Arial"/>
              </a:rPr>
              <a:t>Visão para o Desenvolvimento Sustentável da 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  <a:ea typeface="Arial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  <a:ea typeface="Arial"/>
              </a:rPr>
              <a:t>  Bacia do Prata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- Seminário Internacional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  <a:ea typeface="Arial"/>
              </a:rPr>
              <a:t> - Paraguai (20 a 22/06/200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1774800"/>
            <a:ext cx="88390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3333cc"/>
                </a:solidFill>
                <a:latin typeface="Verdana"/>
                <a:ea typeface="Times New Roman"/>
              </a:rPr>
              <a:t> </a:t>
            </a:r>
            <a:r>
              <a:rPr b="1" lang="pt-BR" sz="17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PRÓXIMAS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Preparação de metodologia de participação pública na construção do Programa M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Realização de seminários nacionais para apoiar a elaboração do Diagnóstico Transfronteir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Realização de seminário internacional  para consolidar o Diagnóstico Transfronteiriço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371600"/>
            <a:ext cx="89154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grama Marco para Gestão Sustentável dos Recursos Hídricos da Bacia do Prata,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onsiderando os Efeitos Hidrológicos Decorrentes da Variabilidade e Mudanças Cli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Construir uma associação de esforços para assistir os governos da Argentina, Bolívia, Brasil, Paraguai e Uruguai no fortalecimento de uma visão para o desenvolvimento econômico e social ambientalmente sustentável da Bacia do Prata, baseado na gestão integrada dos recursos hídricos e considerando a variabilidade e mudanças cli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Aprovado pelo FMAM (GEF) em junho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576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051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50960"/>
            <a:ext cx="457200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Países formadores da bacia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Argentina, Bolívia, Brasil, Paraguai e Urugu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Área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3.100.000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População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67.000.000 h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</a:rPr>
              <a:t>Principais rios da bacia</a:t>
            </a:r>
            <a:r>
              <a:rPr b="0" lang="pt-BR" sz="20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</a:rPr>
              <a:t>Rios Paraguai, Paraná e Urugu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scp" descr=""/>
          <p:cNvPicPr/>
          <p:nvPr/>
        </p:nvPicPr>
        <p:blipFill>
          <a:blip r:embed="rId1"/>
          <a:stretch/>
        </p:blipFill>
        <p:spPr>
          <a:xfrm>
            <a:off x="4594320" y="2198520"/>
            <a:ext cx="4379760" cy="4094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BACIA HIDROGRÁFICA DO RIO DA P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486400"/>
            <a:ext cx="213372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838080"/>
            <a:ext cx="9144000" cy="5638680"/>
            <a:chOff x="0" y="838080"/>
            <a:chExt cx="9144000" cy="5638680"/>
          </a:xfrm>
        </p:grpSpPr>
        <p:sp>
          <p:nvSpPr>
            <p:cNvPr id="54" name=""/>
            <p:cNvSpPr/>
            <p:nvPr/>
          </p:nvSpPr>
          <p:spPr>
            <a:xfrm>
              <a:off x="838080" y="1599840"/>
              <a:ext cx="8305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</a:rPr>
                <a:t>Esquema Conceitual do Projeto Glob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838080"/>
              <a:ext cx="8272440" cy="523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31000" y="1447560"/>
              <a:ext cx="126072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31000" y="1447560"/>
              <a:ext cx="1260720" cy="1828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69040" y="163008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apa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2600" y="1128600"/>
              <a:ext cx="6137280" cy="46004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82600" y="1128600"/>
              <a:ext cx="6135840" cy="45990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76400" y="119340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o B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0840" y="1641240"/>
              <a:ext cx="57229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0840" y="1641240"/>
              <a:ext cx="5722920" cy="523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58520" y="1699920"/>
              <a:ext cx="169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talecimento Institu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0840" y="1873080"/>
              <a:ext cx="5722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2480" y="1793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1280" y="1922400"/>
              <a:ext cx="2448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posta de fortalecimento do CIC para desenvolver a Etapa I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1480" y="2039760"/>
              <a:ext cx="205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luindo sistema de suporte para a toma de decisã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80960" y="2350800"/>
              <a:ext cx="10782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80960" y="2350800"/>
              <a:ext cx="1076400" cy="7588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12600" y="24904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sã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56920" y="2671560"/>
              <a:ext cx="948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a o Desenvolvim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44120" y="2776320"/>
              <a:ext cx="60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stentável da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9600" y="2881080"/>
              <a:ext cx="57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acia do Pra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0520" y="2350800"/>
              <a:ext cx="22762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30520" y="2350800"/>
              <a:ext cx="2276280" cy="7588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39560" y="243504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álises do Diagnós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5000" y="2593800"/>
              <a:ext cx="100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Transfronteiriç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360" y="2593800"/>
              <a:ext cx="34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D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74480" y="2752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63400" y="2814480"/>
              <a:ext cx="1134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icando causas e raíz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89680" y="2916000"/>
              <a:ext cx="1026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s problemas ambienta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3080" y="3282840"/>
              <a:ext cx="2208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3080" y="3282840"/>
              <a:ext cx="2208240" cy="5824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42840" y="3387600"/>
              <a:ext cx="107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studos de identificaçã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1240" y="3489120"/>
              <a:ext cx="106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Projetos Pilo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54080" y="3654360"/>
              <a:ext cx="95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monstra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20840" y="4830480"/>
              <a:ext cx="4551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20840" y="4830480"/>
              <a:ext cx="4551480" cy="29232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0040" y="489096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pa Dig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6800" y="4865400"/>
              <a:ext cx="3379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2440" y="49068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5560" y="4906800"/>
              <a:ext cx="1456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mplementação de Mapa Institucion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62440" y="50115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4120" y="5011560"/>
              <a:ext cx="16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Td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33960" y="5011560"/>
              <a:ext cx="1479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a elaboração de base cartográf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0840" y="5319360"/>
              <a:ext cx="48276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0840" y="5319360"/>
              <a:ext cx="4825800" cy="29232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35920" y="5379840"/>
              <a:ext cx="89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36800" y="5435280"/>
              <a:ext cx="3449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38480" y="5476680"/>
              <a:ext cx="203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dentificação e gestão (trabalho junto a FONPLATA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59160" y="2665080"/>
              <a:ext cx="153720" cy="13032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490"/>
                  </a:moveTo>
                  <a:lnTo>
                    <a:pt x="483" y="243"/>
                  </a:lnTo>
                  <a:lnTo>
                    <a:pt x="0" y="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62680" y="2714400"/>
              <a:ext cx="16992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30800" y="2665080"/>
              <a:ext cx="152640" cy="13032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490"/>
                  </a:moveTo>
                  <a:lnTo>
                    <a:pt x="483" y="243"/>
                  </a:lnTo>
                  <a:lnTo>
                    <a:pt x="0" y="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54360" y="3234960"/>
              <a:ext cx="34920" cy="80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5320" y="3108240"/>
              <a:ext cx="1540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2560" y="3108240"/>
              <a:ext cx="349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62440" y="3152520"/>
              <a:ext cx="154080" cy="13032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0"/>
                  </a:moveTo>
                  <a:lnTo>
                    <a:pt x="244" y="490"/>
                  </a:lnTo>
                  <a:lnTo>
                    <a:pt x="4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08720" y="3234960"/>
              <a:ext cx="33120" cy="80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50040" y="3108240"/>
              <a:ext cx="1522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83400" y="3234960"/>
              <a:ext cx="34920" cy="16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24360" y="3108240"/>
              <a:ext cx="1540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59520" y="2885760"/>
              <a:ext cx="34920" cy="243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0840" y="2758680"/>
              <a:ext cx="153720" cy="130320"/>
            </a:xfrm>
            <a:custGeom>
              <a:avLst/>
              <a:gdLst/>
              <a:ahLst/>
              <a:rect l="l" t="t" r="r" b="b"/>
              <a:pathLst>
                <a:path w="483" h="491">
                  <a:moveTo>
                    <a:pt x="483" y="491"/>
                  </a:moveTo>
                  <a:lnTo>
                    <a:pt x="239" y="0"/>
                  </a:lnTo>
                  <a:lnTo>
                    <a:pt x="0" y="491"/>
                  </a:lnTo>
                  <a:lnTo>
                    <a:pt x="483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87600" y="1187280"/>
              <a:ext cx="338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6320" y="1277640"/>
              <a:ext cx="157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reparação do Projeto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7680" y="1295280"/>
              <a:ext cx="77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900" spc="-1" strike="noStrike">
                  <a:solidFill>
                    <a:srgbClr val="000000"/>
                  </a:solidFill>
                  <a:latin typeface="Arial"/>
                </a:rPr>
                <a:t>(“Project Brief”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11760" y="2176200"/>
              <a:ext cx="33480" cy="10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1640" y="2279520"/>
              <a:ext cx="152280" cy="12996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0"/>
                  </a:moveTo>
                  <a:lnTo>
                    <a:pt x="244" y="490"/>
                  </a:lnTo>
                  <a:lnTo>
                    <a:pt x="4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3440" y="2107800"/>
              <a:ext cx="1447560" cy="1290960"/>
            </a:xfrm>
            <a:custGeom>
              <a:avLst/>
              <a:gdLst/>
              <a:ahLst/>
              <a:rect l="l" t="t" r="r" b="b"/>
              <a:pathLst>
                <a:path w="4559" h="4881">
                  <a:moveTo>
                    <a:pt x="3419" y="0"/>
                  </a:moveTo>
                  <a:lnTo>
                    <a:pt x="3419" y="1219"/>
                  </a:lnTo>
                  <a:lnTo>
                    <a:pt x="0" y="1219"/>
                  </a:lnTo>
                  <a:lnTo>
                    <a:pt x="0" y="3662"/>
                  </a:lnTo>
                  <a:lnTo>
                    <a:pt x="3419" y="3662"/>
                  </a:lnTo>
                  <a:lnTo>
                    <a:pt x="3419" y="4881"/>
                  </a:lnTo>
                  <a:lnTo>
                    <a:pt x="4559" y="2438"/>
                  </a:lnTo>
                  <a:lnTo>
                    <a:pt x="3419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5800" y="2044440"/>
              <a:ext cx="1484280" cy="1419120"/>
            </a:xfrm>
            <a:custGeom>
              <a:avLst/>
              <a:gdLst/>
              <a:ahLst/>
              <a:rect l="l" t="t" r="r" b="b"/>
              <a:pathLst>
                <a:path w="4673" h="5362">
                  <a:moveTo>
                    <a:pt x="3420" y="1457"/>
                  </a:moveTo>
                  <a:lnTo>
                    <a:pt x="3474" y="1457"/>
                  </a:lnTo>
                  <a:lnTo>
                    <a:pt x="3474" y="1402"/>
                  </a:lnTo>
                  <a:lnTo>
                    <a:pt x="55" y="1402"/>
                  </a:lnTo>
                  <a:lnTo>
                    <a:pt x="0" y="1402"/>
                  </a:lnTo>
                  <a:lnTo>
                    <a:pt x="0" y="1457"/>
                  </a:lnTo>
                  <a:lnTo>
                    <a:pt x="0" y="3900"/>
                  </a:lnTo>
                  <a:lnTo>
                    <a:pt x="0" y="3955"/>
                  </a:lnTo>
                  <a:lnTo>
                    <a:pt x="55" y="3955"/>
                  </a:lnTo>
                  <a:lnTo>
                    <a:pt x="3474" y="3955"/>
                  </a:lnTo>
                  <a:lnTo>
                    <a:pt x="3474" y="3900"/>
                  </a:lnTo>
                  <a:lnTo>
                    <a:pt x="3420" y="3900"/>
                  </a:lnTo>
                  <a:lnTo>
                    <a:pt x="3420" y="5119"/>
                  </a:lnTo>
                  <a:lnTo>
                    <a:pt x="3420" y="5362"/>
                  </a:lnTo>
                  <a:lnTo>
                    <a:pt x="3524" y="5142"/>
                  </a:lnTo>
                  <a:lnTo>
                    <a:pt x="4664" y="2699"/>
                  </a:lnTo>
                  <a:lnTo>
                    <a:pt x="4673" y="2676"/>
                  </a:lnTo>
                  <a:lnTo>
                    <a:pt x="4664" y="2654"/>
                  </a:lnTo>
                  <a:lnTo>
                    <a:pt x="3524" y="215"/>
                  </a:lnTo>
                  <a:lnTo>
                    <a:pt x="3420" y="0"/>
                  </a:lnTo>
                  <a:lnTo>
                    <a:pt x="3420" y="238"/>
                  </a:lnTo>
                  <a:lnTo>
                    <a:pt x="3420" y="1457"/>
                  </a:lnTo>
                  <a:close/>
                  <a:moveTo>
                    <a:pt x="3529" y="238"/>
                  </a:moveTo>
                  <a:lnTo>
                    <a:pt x="3474" y="238"/>
                  </a:lnTo>
                  <a:lnTo>
                    <a:pt x="3429" y="261"/>
                  </a:lnTo>
                  <a:lnTo>
                    <a:pt x="4569" y="2699"/>
                  </a:lnTo>
                  <a:lnTo>
                    <a:pt x="4614" y="2676"/>
                  </a:lnTo>
                  <a:lnTo>
                    <a:pt x="4569" y="2654"/>
                  </a:lnTo>
                  <a:lnTo>
                    <a:pt x="3429" y="5096"/>
                  </a:lnTo>
                  <a:lnTo>
                    <a:pt x="3474" y="5119"/>
                  </a:lnTo>
                  <a:lnTo>
                    <a:pt x="3529" y="5119"/>
                  </a:lnTo>
                  <a:lnTo>
                    <a:pt x="3529" y="3900"/>
                  </a:lnTo>
                  <a:lnTo>
                    <a:pt x="3529" y="3845"/>
                  </a:lnTo>
                  <a:lnTo>
                    <a:pt x="3474" y="3845"/>
                  </a:lnTo>
                  <a:lnTo>
                    <a:pt x="55" y="3845"/>
                  </a:lnTo>
                  <a:lnTo>
                    <a:pt x="55" y="3900"/>
                  </a:lnTo>
                  <a:lnTo>
                    <a:pt x="109" y="3900"/>
                  </a:lnTo>
                  <a:lnTo>
                    <a:pt x="109" y="1457"/>
                  </a:lnTo>
                  <a:lnTo>
                    <a:pt x="55" y="1457"/>
                  </a:lnTo>
                  <a:lnTo>
                    <a:pt x="55" y="1512"/>
                  </a:lnTo>
                  <a:lnTo>
                    <a:pt x="3474" y="1512"/>
                  </a:lnTo>
                  <a:lnTo>
                    <a:pt x="3529" y="1512"/>
                  </a:lnTo>
                  <a:lnTo>
                    <a:pt x="3529" y="1457"/>
                  </a:lnTo>
                  <a:lnTo>
                    <a:pt x="3529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99400" y="2120760"/>
              <a:ext cx="1174680" cy="10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560" y="216504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Elaboraçã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5520" y="2327040"/>
              <a:ext cx="16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10720" y="2489040"/>
              <a:ext cx="857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25280" y="2652480"/>
              <a:ext cx="41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22600" y="2814480"/>
              <a:ext cx="83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Estratég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40400" y="29764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(PA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89720" y="5493960"/>
              <a:ext cx="8985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83040" y="553860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 Me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5520" y="5518080"/>
              <a:ext cx="9669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28160" y="12348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 An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4200" y="3234960"/>
              <a:ext cx="3312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3108240"/>
              <a:ext cx="1522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20840" y="4038480"/>
              <a:ext cx="43084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20840" y="4038480"/>
              <a:ext cx="4308480" cy="58392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42000" y="4073400"/>
              <a:ext cx="21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Sistema de Previsão Hidroclimát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54280" y="4259160"/>
              <a:ext cx="153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cluindo Alerta Hidro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7840" y="4395600"/>
              <a:ext cx="21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Td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18080" y="4395600"/>
              <a:ext cx="3429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:  estrutura institucional, metodologia e instrumentos a serem utilizados no sistema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8920" y="44985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 previsã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14640" y="4498560"/>
              <a:ext cx="56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hidroclimátic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23920" y="4498560"/>
              <a:ext cx="206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 gestão de alerta que inclua quantidade e qualida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1640" y="3234960"/>
              <a:ext cx="34920" cy="76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2960" y="3108240"/>
              <a:ext cx="15372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0480" y="4620960"/>
              <a:ext cx="34920" cy="20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6600" y="4601880"/>
              <a:ext cx="2232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8400" y="4562280"/>
              <a:ext cx="2232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8400" y="4524120"/>
              <a:ext cx="2232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9840" y="4484520"/>
              <a:ext cx="2232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39840" y="4446360"/>
              <a:ext cx="2232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41640" y="4408200"/>
              <a:ext cx="219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41640" y="4368600"/>
              <a:ext cx="219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1640" y="43304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41640" y="42908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3080" y="42526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43080" y="42130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4880" y="41749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44880" y="41353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6320" y="40971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6320" y="40590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7760" y="4019400"/>
              <a:ext cx="2232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83440" y="2409480"/>
              <a:ext cx="1104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6200" y="2636640"/>
              <a:ext cx="933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fil de projetos para 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62960" y="278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81440" y="4620960"/>
              <a:ext cx="3348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21320" y="4665600"/>
              <a:ext cx="153720" cy="12996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1440" y="3863880"/>
              <a:ext cx="3348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21320" y="3909600"/>
              <a:ext cx="153720" cy="12888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46018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6480" y="45622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6480" y="45241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86480" y="44845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86480" y="44463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6480" y="44082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86480" y="43686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86480" y="43304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6480" y="42908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6480" y="42526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6480" y="42130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86480" y="41749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6480" y="41353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6480" y="40971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6480" y="40590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6480" y="50670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6480" y="50288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6480" y="49892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6480" y="49510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6480" y="49114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86480" y="48733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6480" y="48337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6480" y="47955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1440" y="5114520"/>
              <a:ext cx="33480" cy="6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1320" y="5178240"/>
              <a:ext cx="153720" cy="12852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6480" y="38448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86480" y="38066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6480" y="376704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6480" y="37288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86480" y="36892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6480" y="36511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6480" y="36129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6480" y="35733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6480" y="35352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6480" y="3495600"/>
              <a:ext cx="23760" cy="18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6480" y="34574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86480" y="3417480"/>
              <a:ext cx="23760" cy="2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6480" y="33796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6480" y="3339720"/>
              <a:ext cx="23760" cy="2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6480" y="3301920"/>
              <a:ext cx="23760" cy="18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6480" y="32637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6480" y="32238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81440" y="3108240"/>
              <a:ext cx="3348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1320" y="3152520"/>
              <a:ext cx="153720" cy="13032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65480" y="3992400"/>
              <a:ext cx="33480" cy="4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05000" y="3863880"/>
              <a:ext cx="1540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5480" y="4748040"/>
              <a:ext cx="33480" cy="9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5000" y="4620960"/>
              <a:ext cx="154080" cy="13032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0160" y="46018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70160" y="45622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70160" y="45241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70160" y="44845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70160" y="44463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70160" y="44082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70160" y="43686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70160" y="43304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0160" y="42908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70160" y="425268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70160" y="421308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70160" y="417492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70160" y="4135320"/>
              <a:ext cx="23760" cy="20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0160" y="409716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70160" y="40590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70160" y="401940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70160" y="3981240"/>
              <a:ext cx="23760" cy="19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66920" y="383976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6920" y="3792240"/>
              <a:ext cx="28800" cy="23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66920" y="374292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66920" y="3693960"/>
              <a:ext cx="28800" cy="25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6920" y="364608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6920" y="3597120"/>
              <a:ext cx="28800" cy="25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6920" y="354924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66920" y="3500280"/>
              <a:ext cx="28800" cy="25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66920" y="345240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6920" y="3403440"/>
              <a:ext cx="28800" cy="23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66920" y="335556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6920" y="3306600"/>
              <a:ext cx="28800" cy="23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6920" y="3258720"/>
              <a:ext cx="28800" cy="24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6920" y="3223800"/>
              <a:ext cx="28800" cy="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65480" y="3234960"/>
              <a:ext cx="3348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5000" y="3108240"/>
              <a:ext cx="154080" cy="129960"/>
            </a:xfrm>
            <a:custGeom>
              <a:avLst/>
              <a:gdLst/>
              <a:ahLst/>
              <a:rect l="l" t="t" r="r" b="b"/>
              <a:pathLst>
                <a:path w="484" h="491">
                  <a:moveTo>
                    <a:pt x="484" y="491"/>
                  </a:moveTo>
                  <a:lnTo>
                    <a:pt x="240" y="0"/>
                  </a:lnTo>
                  <a:lnTo>
                    <a:pt x="0" y="491"/>
                  </a:lnTo>
                  <a:lnTo>
                    <a:pt x="484" y="4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1640" y="2350800"/>
              <a:ext cx="836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11640" y="2350800"/>
              <a:ext cx="835200" cy="7588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25120" y="281916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MA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89520" y="2636640"/>
              <a:ext cx="154080" cy="12852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490"/>
                  </a:moveTo>
                  <a:lnTo>
                    <a:pt x="483" y="243"/>
                  </a:lnTo>
                  <a:lnTo>
                    <a:pt x="0" y="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39720" y="2438280"/>
              <a:ext cx="7552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grama Macro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ções Estratégica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5800" y="39621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ap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50240" y="5090760"/>
              <a:ext cx="78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ap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8880" y="3809880"/>
              <a:ext cx="1184040" cy="6094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59800" y="4952880"/>
              <a:ext cx="1184040" cy="60948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19960" y="4495680"/>
              <a:ext cx="528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ecuçã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 PA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90080" y="3441600"/>
              <a:ext cx="33120" cy="6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29600" y="3504960"/>
              <a:ext cx="154080" cy="12852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90080" y="4579560"/>
              <a:ext cx="33120" cy="6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29600" y="4643280"/>
              <a:ext cx="154080" cy="128520"/>
            </a:xfrm>
            <a:custGeom>
              <a:avLst/>
              <a:gdLst/>
              <a:ahLst/>
              <a:rect l="l" t="t" r="r" b="b"/>
              <a:pathLst>
                <a:path w="485" h="490">
                  <a:moveTo>
                    <a:pt x="0" y="0"/>
                  </a:moveTo>
                  <a:lnTo>
                    <a:pt x="245" y="490"/>
                  </a:lnTo>
                  <a:lnTo>
                    <a:pt x="4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5400000">
              <a:off x="4117320" y="3658680"/>
              <a:ext cx="75960" cy="540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6248160"/>
              <a:ext cx="152640" cy="228600"/>
            </a:xfrm>
            <a:custGeom>
              <a:avLst/>
              <a:gdLst/>
              <a:ahLst/>
              <a:rect l="l" t="t" r="r" b="b"/>
              <a:pathLst>
                <a:path w="483" h="490">
                  <a:moveTo>
                    <a:pt x="0" y="490"/>
                  </a:moveTo>
                  <a:lnTo>
                    <a:pt x="483" y="243"/>
                  </a:lnTo>
                  <a:lnTo>
                    <a:pt x="0" y="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97120" y="6171840"/>
              <a:ext cx="1353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RONOGRAMA DE ATIVIDAD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2480" y="624816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UBR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03520" y="624816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BRI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2361960"/>
              <a:ext cx="1260360" cy="182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2361960"/>
              <a:ext cx="1260360" cy="1828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400" y="3035160"/>
              <a:ext cx="1174680" cy="10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760" y="3079440"/>
              <a:ext cx="69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dentificaçã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je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720" y="4356000"/>
              <a:ext cx="33480" cy="6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4920" y="2590560"/>
              <a:ext cx="85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o A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7200" y="685800"/>
            <a:ext cx="830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Esquema Conceitual do Projeto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1419120"/>
            <a:ext cx="88390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ATIVIDADES DE PREPARAÇÃ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1 -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Fortalecimento dos arranjos institucionais para o gerenciamento integrado da B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2 - Previsão dos impactos da variabilidade climática e mudança na hidrologia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3 - Fortalecimento de uma visão comum para o desenvolvimento sustentável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4 - Preparação de um Programa Macro de Ações Estratégicas – PMAE para o gerenciamento integrado dos recursos hídricos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5 - Identificação de projetos pilotos demonstrativos para o gerenciamento de tópicos e áreas críticas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1395360"/>
            <a:ext cx="883908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Verdana"/>
                <a:ea typeface="Times New Roman"/>
              </a:rPr>
              <a:t>ATIVIDADES DE PREPARAÇÃ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1 - Fortalecimento dos arranjos institucionais para o gerenciamento integrado da B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Ampla e participativa associação de esforços de agências, instituições e organizações envolvidas na preparação do document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mponentes 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Fortalecimento do Comitê Intergovernamental Coordenados dos   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Países da Bacia do Prata C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P</a:t>
            </a: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lano de Participação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Mapa Digital e Centro de Docu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2280" y="1620720"/>
            <a:ext cx="883944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2 - Previsão dos impactos da variabilidade climática e mudança na hidrologia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Trabalho de equipe com vários especialistas em disciplinas científicas e tecnológicas para preparar um sistema de previsão contemplando clima – água – solo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mponentes 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Sistema de Previsão Hidroclimático  e Gestão Hídrica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modelo de previsão sobre clima, hidrologia e dinâmica do uso d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Coleta e publicação de um conjunto de dados úteis ao desenvolvimento da capacidade de prevenção de event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459080"/>
            <a:ext cx="8763120" cy="52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3 - Fortalecimento de uma visão comum para o desenvolvimento sustentável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Gerar acordos de base quanto aos objetivos de utilização dos recursos hídricos no esforço para impulsionar o desenvolvimento sustentável da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 B</a:t>
            </a:r>
            <a:r>
              <a:rPr b="0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acia do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P</a:t>
            </a:r>
            <a:r>
              <a:rPr b="0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rata, do ponto de vista estratég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mponentes 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- </a:t>
            </a: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“Visão” para o Desenvolvimento Sustentável da B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- Diagnóstico Transfronteiriço contendo a identificação dos problemas ambientais vinculados a recursos hídricos da Bacia do Prata e suas causas bás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2280" y="1739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4 - Preparação de um Programa Macro de Ações Estratégicas – PMAE para o gerenciamento integrado dos recursos hídricos da Bacia do P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Definição dos elementos constitutivos, alcances e termos de referência do PMAE como o instrumento central de planejamento e gest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Componentes 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- Consolidação do CIC no sistema da B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- Estruturação de um Sistema de Suporte à Tomada de Decisõ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- Definição de ações estratégicas e estabelecimento de acordos para gestão integrada dos recursos híd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  <a:ea typeface="Times New Roman"/>
              </a:rPr>
              <a:t>Propostas de ações estratégicas, para  incorporar no PMAE, acordados entre atores institucionais, sociais e acadêm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8:54:18Z</dcterms:created>
  <dc:creator>Ricardo Crema</dc:creator>
  <dc:description/>
  <dc:language>en-US</dc:language>
  <cp:lastModifiedBy>est4036</cp:lastModifiedBy>
  <cp:lastPrinted>2004-09-15T17:48:11Z</cp:lastPrinted>
  <dcterms:modified xsi:type="dcterms:W3CDTF">2004-09-30T15:43:59Z</dcterms:modified>
  <cp:revision>1379</cp:revision>
  <dc:subject/>
  <dc:title>Apresentação do PowerPoint</dc:title>
</cp:coreProperties>
</file>